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1FA-D2E7-4A9A-87DF-B792C323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43E-A11F-4BFD-8926-8A142CD2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41475-57AE-4E16-AD6E-03AA1E6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64DA-B79C-4A35-BBE9-64982AD7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BDFA-01FB-44A3-B817-CF7277F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A6325-CEF1-4E23-818B-FAC517A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C6F47-75A4-46E4-989E-83C1693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2401F-1728-4122-94CB-949C8D8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8676F-5FBD-4CBA-900B-D735E037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EE21F-2CC5-434B-9D11-8888429A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F51A-A886-442C-879D-70D24C4E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98CCD-902F-4482-B5A2-13D18BE2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4C7-DCEC-497B-BEF3-2C9C20B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DEACE-7050-42CE-80EA-89BF15C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A45A6-56D1-406F-A935-9643E7F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691D5-7793-403C-9AFF-578C67C8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00D54-3AFC-4193-89DC-04416DD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4BA7B-8B62-4D4B-AAFB-60F2159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09865-017C-4D6E-BA10-FE965AA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16C97-8F1E-4B28-B6DB-3D069D8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15265-A3BE-45DD-91CA-F1E1339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E0AC9-4CF4-4FE6-BE3F-43161A51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7B274-F000-456D-862F-A11F34E8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DF1-83A4-4C00-9DE1-99AE46EF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B5761-5317-440C-9FB6-4EDFFD4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0B682-128C-4EBC-A89A-2817295F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A8233-177B-4371-9C83-57B92E6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ED55-F3CC-4DC3-8C64-3E25E64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86943-7066-487E-AA9B-2FDFB9BD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2BD1C-F07D-4652-9CFC-87EECC5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96C18-956F-4F84-9C68-CA2A09F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4DBDB-5A08-4A19-B67F-D894F96A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4B5B3-59F0-4F3C-A3B0-1CFC0F3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AD8BA-CDBB-4657-937C-322C957E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E819-7361-4F3A-83CE-E89A7851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733A7-D06F-48D0-87EA-5002DCF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1E071-578B-4192-99A8-79C2415A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3B4F8-4C38-4130-93D8-1A1A63CD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71DD7-1A3B-4511-96CF-F33153EB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D6656-E2C7-40AE-B88B-8004EBCA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0E6B3-8775-4CF0-A7C7-4BEB7D8E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D149D-D76D-457E-BDF2-E7CFD472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8F014-6259-4FA4-8D7D-0986C2B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126D9-FD21-4F25-B590-E6EBC044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68D73-6180-4F3E-B790-FF73116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7CA-4422-46E4-9592-14AD7E1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86DB2-0620-4ED8-876B-145CF18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CA726-8DDC-41E0-A45E-8014A47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1DB04-05EE-4734-832B-AEB004E2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2AD1C-346A-4817-A131-ADF86DFD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F16C0-206A-42A7-AF11-92480A9A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F7DE8-C530-493C-9D74-6512776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AC15-A273-4F72-B2D7-BE3BBEC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4D3FE-E08D-431E-9C19-CBF6411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D6F09-A462-4363-9FD1-7E635D05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94464-AC73-4989-A2B4-771AE97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616-0CAE-49F5-A2B8-D1FD0955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A7BC9-34D8-4EFB-9B7D-1FAE1B7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F1BC1-E2DE-42BF-8E4E-6B8F47B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274E-27A9-4109-9562-2BC2E2F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1CD91-59E7-48B2-BB29-14F276F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DD7E6-FAA4-448B-A965-2F246BC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19167-4BA5-40EF-9809-26AA2767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94433-21C5-40DB-9B87-4DD72748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6D5F5-0DD5-4A06-A3B1-0161AEB5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BF635-08B1-494C-9765-79E0B26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6458C-676A-47CA-A78D-C441794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ED8-902E-4F9F-ADD3-D4FE5739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3826-6CB9-4DA2-852E-6F5CFC5C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88A6B-EB3A-433D-B5BB-C9C9253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57842-D904-4E11-A3CF-9C9041F2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446F5-86B4-4CDA-8803-F357312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693FF-8006-4C25-A27B-353498B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CAEEA-352E-4966-9E50-0AD119A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D6695-A4E8-4E7C-92E7-30ACB08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5108F-0DAA-462F-A24E-0A086E21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30C3D-D179-469C-AB19-462DAD63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35239-A372-4995-8980-50781BEA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1808-D391-410D-A0CA-2ED548EC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34707-BF85-4DDF-9C50-FED0C3E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8AC72-F4B0-4C29-9D26-5C698DE7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E02BD-7676-4BBF-A379-849D4AD4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E083C-43FF-43A2-B42A-627E715D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D2366-5CF6-46C7-A852-CCACDAC5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C92E7-554F-431C-8AD8-1948E40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24A7D-7696-418A-B58C-E9F777B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E5046-C7B4-451B-B48E-8ECD7CA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184F7-DE43-4CF8-8F9C-92760B8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37142-F1D9-4F14-A075-D1224D35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E90-9FD8-49FA-9BE5-29D5DAB9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39D88-833D-4CCC-AB69-B64C3574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CD88F3-46F6-4BDE-A955-4938C2D3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E08DD-D15B-42F4-AA75-1B7BB089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E4A91-C66D-498F-B436-EA611559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530C8-E832-4E5B-A127-A6A2DCD9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39941-3415-4883-88F4-46A633B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09916-4DEC-4A89-8028-F5B7985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BEC6A-5A46-48DF-9B69-A94EE5C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81280-5301-4D71-85C6-587262E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F1ABD-5F3E-4D78-AC33-2796FB6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6727-F537-4B96-93D6-1A20EEA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EC32C-EAFE-49AB-81FD-E113520B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1A272-6F10-43F3-9931-AA2141E9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60DF6-FD5A-4651-B549-7CB49C73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5E821-9728-4AB5-80D5-C0F1B160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8C75E-10EA-4057-A0FB-E4606EC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C2171-3271-40DA-B1C1-28045687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93BA0-2D66-4E9B-9012-C9D0511D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C09C5-7B2F-4967-8512-ADC6EEB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5BEFB-45C0-419C-97E0-CA421F2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1ECFB-96C5-41AB-82F0-63CC188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C1A-5510-4FED-A66E-92EFAF72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FFF1-8DE0-4AF3-9051-C67102C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4F520-DCBF-491C-A642-3E14C3A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CE85A-382B-45B1-B6FC-CFBD2ED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3A835-F417-484E-B6A1-6B7E2207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DA501-E87B-41A9-A791-154C2464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D1E09-2150-43D8-A316-7EC58BA0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8287E-C0AE-49F1-8410-24768130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90030-E6BB-47D9-934D-A4362190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DABD7-5885-400A-8560-9976450E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BA70B-CF54-4D2F-A46F-3734A86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B124A-BCD4-4C26-8F95-C8146CB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DAB-1F39-4729-91A6-0B6EE61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8DC8F-0DCA-4420-B88C-1B23B802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E4B6F-E023-4356-A74B-13E74FE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2F571-6DB5-414F-8B49-8A47796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3F958-9E10-4C78-8C35-6F78524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BFDC9-6388-44AF-8578-123665D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CA236-7B65-4810-A660-97995715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1E946-EE1B-4CE2-856F-117B55FD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7BF3C-0EA4-42AD-ABA5-53258B91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8D1D2-8FD5-4176-ACAC-EB25EAF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60313-58E1-4D22-B38F-AEF8C62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6882-E183-443F-915D-B30ACCF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3A237-252A-4BE4-B13B-2FE953A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2EAA1-3590-4E93-B95F-ED4E3495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A852C-E764-498A-A8D9-611E08A3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A9668-AF12-4E12-B43A-4930A96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6940D-D873-40A1-83A1-905CDE74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46ECE-751F-4224-B95D-B9BFBE5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63D65A-1363-4270-90FC-68A5DA8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AC1F5-67F0-41DB-8FDE-E8D3466C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CC016-1915-4D6A-817F-1485FBC8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13AA1-15B6-4E49-874E-2F0A811C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A524-2978-4396-B668-A4F0889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6D939-9943-4CFD-BC2A-01DEF0F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88A00-2852-4E08-8236-D5D651F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D4F86-333D-421C-AF85-C5AE8D5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0355B-7F87-4440-92CA-675C6AE6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668FD-D7DE-4C73-8F01-BD1552E5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315E0-13B5-4366-A600-D0D2BEB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4E4C1-0E1C-4401-A865-3B05E6C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559B6-6BD9-4E38-A257-241DD96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D340D-7FFB-47C9-8BA0-F61C9ED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BA865-C46D-44FB-88C1-A5432C0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571A-183B-45B3-883F-4A0BBAFB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26F3F-4951-4B8E-AF6F-D8FDA0E6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A9F856-FBAE-478A-BF7D-A6EF28E0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9470F-59DE-45CA-98E8-FF269F9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9E5D2-FC1B-4A18-B1B9-D6911A8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05F4A-9839-4DCC-B684-EBC7FD8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63B70-A528-4710-9BCB-B06F207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D960C-7322-4AE7-8865-91FD7F0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9C4B9-B3BF-4DB3-B9C1-46929FB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A2558-A3C0-4636-A355-84BA244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D1DEC-BCBE-4D1C-8752-966ADB9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E879-CC7B-4688-B9CB-46CBF4DE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F2B8D-EB0B-4313-B223-618C89CE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1C669-1BAC-4309-8ADC-C370524E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E3DCF8-EA60-480F-AB52-B3759CC8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13B6-D048-4804-B888-2236F6D9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98F2-1816-42DB-A7CC-997D609B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2AD7-F91B-4BE4-99DD-1632D4F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D52C-3738-45FE-B8E6-8DBB6F4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FFB-2547-472E-8E4D-CE430FD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87CB-DA28-47FB-AC6C-2B0145F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3492-9E1F-4842-ADB5-997EF33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780A-E8B0-493B-AAB9-0F5BEE3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AF56-FE75-4062-9045-7125A5C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18D7-0ABB-4361-94F4-3D3B433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762D-96CF-41F6-8094-C24D7B56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0105-6D11-41D5-BB17-45F135DE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74C6-ED93-4F82-A074-914CB690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7F82-0D75-4232-8194-D0F9C09C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DF67-EF6C-41AE-9A8C-A069CA4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B22-A071-463A-B77D-3C2DC160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B78C-0A75-45E7-A2F7-C210999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127CB-0643-439D-8042-D3A68ACE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E1B7-D623-4C83-833A-062D9EC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FC60-9282-4A0C-A27D-69CE234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77FA-0B71-4E47-9039-4313964A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9C78-B0AF-4598-9470-61D20F4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0DB5-1827-474C-AF51-9562FAB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0F9D-BB1F-452C-9650-BFCD3206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F817-6992-425E-BA4D-3B7FAF16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61ED-A720-4DA2-821F-93A2A2A1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0C2-ACB9-4F74-9CDE-EE9E313D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0EB30-8489-4D63-B1FA-85114A8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FCE2-0185-4FAD-B99A-E93EE50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33F4-3700-4314-84BB-DDBB8B5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052B-D778-47B2-97C5-207E05F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CC7C-1220-4C25-BFFD-DEB7FFA3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21E2-13DF-4BA4-BF5E-1500300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B24F-D0C2-4E57-AC08-A3B41D9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3B25-78D1-47BD-A5A6-4D4B8AF8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96CE-E365-491A-B1C3-78215C8A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E0EE-8995-410F-BCBE-578CE764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53B-B42C-4834-8559-C590671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9E5D-85F6-40F9-9C67-14738F18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8B70-4CCA-4E15-978F-7722A5F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7B86F-E3A8-4146-AA6C-4A93BE1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9B87-027E-4A27-B2D5-67C8DB20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5AF2-8C06-4598-8004-35D3EE8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E863-5BA1-48D2-AB7D-E134E0C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FC5B0-B6A5-49C4-8E08-FE25AAD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7B9A-8EA3-4463-B495-6C8AD80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F1B2-C3AD-4899-9482-CB6B893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6DD86-951A-4B51-8E33-ADA72C7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F32-1C4A-4E0B-BC6E-EC2C542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3D6EB-60AB-4E87-88C9-063EE04F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32961-CFAC-46DB-BE6D-F8488DF2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068E-B9D2-446F-BE53-927A4AF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3F7E-88DF-4480-9A01-74F5ADBB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E06A9-4EB4-424A-B778-F112E1DE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C8D8-3329-4F05-BD89-03912629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B66E-4716-4CF2-BAC5-06ED8CD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CCA2-BDBD-4EE4-9691-4790E00F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40999-9126-42C6-AE06-C3F4A864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FF68-7B86-460E-B489-5968893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4F3-386F-41C8-862E-493F330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60A84-8D49-4592-8952-E1E3482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E0A0B-8D7C-4948-B78C-EEB7647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9C0C5-D773-48D0-A0B3-CFEC623C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0823-5E67-43D8-AD34-1EA09580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D59BA-7EBC-419B-8A21-577D2B2E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E5DF8-756E-40C5-BCE7-1A31A4E8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1914-F362-4683-8136-760E552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A88EA-31E5-493A-AF63-539B313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44F9-27CA-4C25-B187-FC591358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9FD9-C149-48D7-B608-53226545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F01-C0B5-49C5-B549-63532DF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3C28-C1FC-4A8A-B4B3-3B730D58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433F-1E09-46E0-ADEE-63A02C9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C1FB-998B-49F3-B6F6-95EF138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BD006-DECA-4142-BB4B-2838389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92FEB-5BF6-4668-AC5F-36AFBFB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9F8CC-0805-4099-BB99-C69CE222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76AA-274C-49B1-A30F-9BBD8C08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D5F01-68C2-4CA4-9414-961CBFC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CA97-AF52-41AB-ABB1-D582C38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584F-16AE-493E-8596-C5B9E3F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A1AB-78DF-49BC-AC1C-4D22580A1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6CB-242F-4C39-84C8-BC2DA06EC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8DE-32EE-41E0-A7AD-279B7144D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16B-B48B-480F-8DC1-F2CAD99F1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4B7-CAD9-48E4-A3BD-428A17EA8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7E8-786F-4103-BDDA-82D7E1651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EF4D-B87A-45EC-A783-2EF12C864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CEA8-2760-4A78-89F7-B4F10BD49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F163-F581-4FB6-A536-84588D237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51FB-5D32-47F4-95BA-A957BFE07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DD7-45E0-4F91-A8CE-2DAB24739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D31B-7754-4068-BBFC-9A052F37D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6A2F-1B5F-4966-B408-F31D19C6B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0C7-2781-419A-B4B4-17D605F82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C32E-C904-4753-A1DA-F15715CF4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94E-82F3-4D62-A3F0-CCA0C5B44B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DF4-3117-444A-A0DE-639B2E980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FBD-FE3D-4713-8635-6EA6F5953C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F1C-54FA-4757-BC5A-5598F8A79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87E-0783-4957-9C00-00283CC62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617C-79EB-4CED-95A2-B3E1D4A05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85B-B30B-4D0C-8405-120F90FAF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43A-D7B2-432B-A26F-C7C670D49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F73-4B80-433A-B48A-8646CE5DA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F16-D204-40D3-9A06-F56E99EB1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7B3B-5DC1-42C2-9040-99989F642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D26B-CB63-498B-911B-39468584E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FF13-1D23-4C19-9CC8-F3B85A1D2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AE2-B87A-48FD-9651-5ECF2C31E9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7635-ED39-42CD-8ECE-4D3E7999E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3BB-D362-462E-A56B-47A0BC5DD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4DC-4AF5-478A-AA11-C795026D6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22D-4CA5-48A9-9A42-2AF947C7A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9AF9-0A35-428A-AFE5-736E95267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47E2-187A-433C-B926-D7488E1F4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A9B4-5D84-4A66-9B1B-D9FC16693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AA35-FA71-45AF-BD5E-D6B61DD82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5DE-428D-4693-9C47-E2353220B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0FBE-29CB-4A8B-8CB3-D91A69B6E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53B-1B49-448C-A3E5-D5A32402C3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76520" y="3205080"/>
            <a:ext cx="3990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654120" y="1130400"/>
            <a:ext cx="7837560" cy="5010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2"/>
          <a:stretch/>
        </p:blipFill>
        <p:spPr>
          <a:xfrm>
            <a:off x="2786040" y="164304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3"/>
          <a:stretch/>
        </p:blipFill>
        <p:spPr>
          <a:xfrm>
            <a:off x="4714920" y="1666800"/>
            <a:ext cx="857160" cy="405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4"/>
          <a:stretch/>
        </p:blipFill>
        <p:spPr>
          <a:xfrm>
            <a:off x="6786720" y="2833560"/>
            <a:ext cx="1643040" cy="4032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5"/>
          <a:stretch/>
        </p:blipFill>
        <p:spPr>
          <a:xfrm>
            <a:off x="1214280" y="3381480"/>
            <a:ext cx="3786480" cy="4046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6"/>
          <a:stretch/>
        </p:blipFill>
        <p:spPr>
          <a:xfrm>
            <a:off x="2857680" y="4524480"/>
            <a:ext cx="4714560" cy="404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7"/>
          <a:stretch/>
        </p:blipFill>
        <p:spPr>
          <a:xfrm>
            <a:off x="3214800" y="5072040"/>
            <a:ext cx="1643040" cy="4050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8"/>
          <a:stretch/>
        </p:blipFill>
        <p:spPr>
          <a:xfrm>
            <a:off x="6215040" y="5095800"/>
            <a:ext cx="2286000" cy="4050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9"/>
          <a:stretch/>
        </p:blipFill>
        <p:spPr>
          <a:xfrm>
            <a:off x="1071720" y="5643720"/>
            <a:ext cx="32144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2" descr=""/>
          <p:cNvPicPr/>
          <p:nvPr/>
        </p:nvPicPr>
        <p:blipFill>
          <a:blip r:embed="rId1"/>
          <a:stretch/>
        </p:blipFill>
        <p:spPr>
          <a:xfrm>
            <a:off x="339840" y="695160"/>
            <a:ext cx="8466120" cy="61423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7286760" y="4119480"/>
            <a:ext cx="1571400" cy="4050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3"/>
          <a:stretch/>
        </p:blipFill>
        <p:spPr>
          <a:xfrm>
            <a:off x="1500120" y="4667400"/>
            <a:ext cx="4071960" cy="4046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4"/>
          <a:stretch/>
        </p:blipFill>
        <p:spPr>
          <a:xfrm>
            <a:off x="6786720" y="5214960"/>
            <a:ext cx="1928520" cy="4046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5"/>
          <a:stretch/>
        </p:blipFill>
        <p:spPr>
          <a:xfrm>
            <a:off x="1500120" y="5786280"/>
            <a:ext cx="3143160" cy="4050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6"/>
          <a:stretch/>
        </p:blipFill>
        <p:spPr>
          <a:xfrm>
            <a:off x="6572160" y="6357960"/>
            <a:ext cx="22147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716040" y="768240"/>
            <a:ext cx="7769160" cy="60516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2"/>
          <a:stretch/>
        </p:blipFill>
        <p:spPr>
          <a:xfrm>
            <a:off x="1785960" y="714240"/>
            <a:ext cx="40719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628560" y="914400"/>
            <a:ext cx="7886880" cy="5553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5214960" y="2286000"/>
            <a:ext cx="3071880" cy="4046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000760" y="2857680"/>
            <a:ext cx="2786040" cy="4046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2286000" y="3714840"/>
            <a:ext cx="2500200" cy="4046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5"/>
          <a:stretch/>
        </p:blipFill>
        <p:spPr>
          <a:xfrm>
            <a:off x="2286000" y="4286160"/>
            <a:ext cx="1357200" cy="405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6"/>
          <a:stretch/>
        </p:blipFill>
        <p:spPr>
          <a:xfrm>
            <a:off x="4965840" y="3726000"/>
            <a:ext cx="3286080" cy="4046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7"/>
          <a:stretch/>
        </p:blipFill>
        <p:spPr>
          <a:xfrm>
            <a:off x="4929120" y="4299120"/>
            <a:ext cx="3286080" cy="4032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8"/>
          <a:stretch/>
        </p:blipFill>
        <p:spPr>
          <a:xfrm>
            <a:off x="2214720" y="5167440"/>
            <a:ext cx="2571480" cy="4046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9"/>
          <a:stretch/>
        </p:blipFill>
        <p:spPr>
          <a:xfrm>
            <a:off x="2214720" y="5715000"/>
            <a:ext cx="2571480" cy="4046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10"/>
          <a:stretch/>
        </p:blipFill>
        <p:spPr>
          <a:xfrm>
            <a:off x="5000760" y="5178600"/>
            <a:ext cx="3286080" cy="404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11"/>
          <a:stretch/>
        </p:blipFill>
        <p:spPr>
          <a:xfrm>
            <a:off x="4965840" y="5738760"/>
            <a:ext cx="32860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68360" y="754200"/>
            <a:ext cx="8461440" cy="6059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2214720" y="2214720"/>
            <a:ext cx="446040" cy="330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3071880" y="2523960"/>
            <a:ext cx="428400" cy="330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214720" y="284652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2786040" y="3206880"/>
            <a:ext cx="857160" cy="301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2571840" y="4048200"/>
            <a:ext cx="1071360" cy="330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4786200" y="3726000"/>
            <a:ext cx="3429000" cy="330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4643280" y="4097160"/>
            <a:ext cx="3643560" cy="2811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2428920" y="4929120"/>
            <a:ext cx="1214280" cy="330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4786200" y="4619520"/>
            <a:ext cx="3571920" cy="33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4714920" y="4998960"/>
            <a:ext cx="3571920" cy="2714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2"/>
          <a:stretch/>
        </p:blipFill>
        <p:spPr>
          <a:xfrm>
            <a:off x="3571920" y="5429160"/>
            <a:ext cx="357120" cy="330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13"/>
          <a:stretch/>
        </p:blipFill>
        <p:spPr>
          <a:xfrm>
            <a:off x="2214720" y="5794200"/>
            <a:ext cx="785520" cy="274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14"/>
          <a:stretch/>
        </p:blipFill>
        <p:spPr>
          <a:xfrm>
            <a:off x="2333520" y="61149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15"/>
          <a:stretch/>
        </p:blipFill>
        <p:spPr>
          <a:xfrm>
            <a:off x="2392200" y="6472080"/>
            <a:ext cx="649440" cy="239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16"/>
          <a:stretch/>
        </p:blipFill>
        <p:spPr>
          <a:xfrm>
            <a:off x="4714920" y="5738760"/>
            <a:ext cx="3571920" cy="330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17"/>
          <a:stretch/>
        </p:blipFill>
        <p:spPr>
          <a:xfrm>
            <a:off x="4572000" y="6127920"/>
            <a:ext cx="3571920" cy="27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233280" y="720720"/>
            <a:ext cx="8713800" cy="6093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2214720" y="83340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2071800" y="1187280"/>
            <a:ext cx="1571400" cy="285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2857680" y="1542960"/>
            <a:ext cx="357120" cy="263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2357280" y="1852560"/>
            <a:ext cx="357480" cy="287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4429080" y="1143000"/>
            <a:ext cx="4071960" cy="330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4214880" y="1508040"/>
            <a:ext cx="4500360" cy="3222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8"/>
          <a:stretch/>
        </p:blipFill>
        <p:spPr>
          <a:xfrm>
            <a:off x="8358120" y="3693960"/>
            <a:ext cx="357120" cy="330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9"/>
          <a:stretch/>
        </p:blipFill>
        <p:spPr>
          <a:xfrm>
            <a:off x="4565520" y="486108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10"/>
          <a:stretch/>
        </p:blipFill>
        <p:spPr>
          <a:xfrm>
            <a:off x="785880" y="5262480"/>
            <a:ext cx="3786120" cy="330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1"/>
          <a:stretch/>
        </p:blipFill>
        <p:spPr>
          <a:xfrm>
            <a:off x="1285920" y="5643720"/>
            <a:ext cx="14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2"/>
          <a:stretch/>
        </p:blipFill>
        <p:spPr>
          <a:xfrm>
            <a:off x="5572080" y="5654520"/>
            <a:ext cx="3071880" cy="331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13"/>
          <a:stretch/>
        </p:blipFill>
        <p:spPr>
          <a:xfrm>
            <a:off x="3143160" y="604836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14"/>
          <a:stretch/>
        </p:blipFill>
        <p:spPr>
          <a:xfrm>
            <a:off x="7500960" y="6072120"/>
            <a:ext cx="14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15"/>
          <a:stretch/>
        </p:blipFill>
        <p:spPr>
          <a:xfrm>
            <a:off x="500040" y="6453360"/>
            <a:ext cx="121464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123840" y="1176480"/>
            <a:ext cx="8896320" cy="4505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8358120" y="164304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2928960" y="4834080"/>
            <a:ext cx="785880" cy="328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1071720" y="5249880"/>
            <a:ext cx="3500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324000" y="717480"/>
            <a:ext cx="8496000" cy="6096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2000160" y="1249200"/>
            <a:ext cx="6000840" cy="4050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6357960" y="1820880"/>
            <a:ext cx="2500200" cy="4046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1285920" y="2381400"/>
            <a:ext cx="3286080" cy="4046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7929720" y="5286240"/>
            <a:ext cx="4284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333360" y="1112760"/>
            <a:ext cx="8477280" cy="4980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2"/>
          <a:stretch/>
        </p:blipFill>
        <p:spPr>
          <a:xfrm>
            <a:off x="7905600" y="109548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333360" y="1147680"/>
            <a:ext cx="8477280" cy="5019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7858080" y="17146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7858080" y="336708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352440" y="1800360"/>
            <a:ext cx="8439120" cy="3257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2"/>
          <a:stretch/>
        </p:blipFill>
        <p:spPr>
          <a:xfrm>
            <a:off x="7881840" y="348624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352440" y="1069920"/>
            <a:ext cx="8439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41:42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